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EA2E-0E4C-415D-8619-5534AFDC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080C-B12C-4A10-A847-95D87BD3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76CA-6FF3-441C-8C65-8553CB5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79CA-1294-48C3-9240-6300DFD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B571-743A-446E-89F9-CEBE59C2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7C7-4B11-4B51-8763-9F11FCAC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FD43-C9BF-4D1A-8966-601BA40A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3FB4-1242-4A4A-885E-E98E91B8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5792-4ED0-457F-8DD4-F8F9E08C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505C-3127-41C3-A792-81F69C0D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8DE8-8F1F-4F00-8307-6FBABDD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41FE-556A-4FE0-A17E-1E79A34D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C575-6FA6-4D31-9597-4816BF0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BCE0-514A-4816-869F-CA1F5199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53D8-5BF2-48DD-A607-C2F4D460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180B-68DD-4C90-BCD9-99311CED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AAFA-D13E-4D01-91F5-E0ED7D6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6AA6-70BD-4CBF-A290-CAD25E81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9F38-345C-46D2-AEE9-FB826862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AD89-F613-4360-A59C-C3146AC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EB36-3C2D-470E-AB71-C440EECA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230-8315-4B64-A965-AC057C06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2244-1BCB-48E3-AE03-44B4967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1E50-A037-4E52-A2FF-EC5AE74D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A59-14B4-45BF-B9DA-105FC6E3B4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1B5-8001-435A-A77C-46693F4A2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38080" y="1981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 Perspectives on the Job Market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Now that Excel is Our BITCH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441972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am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am B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ason Riss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chael Smo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hilip So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lly Tho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3595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pril 24, 200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: 1 period = 6 months ; Salaries = USD$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838080" y="2514600"/>
            <a:ext cx="3578400" cy="3816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876920" y="2438280"/>
            <a:ext cx="3809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 English, this mea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nvesment Bank jobs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pen on ave. once every 5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iods (it’s the inver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Office Space Dude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m. happen once every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 perio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B jobs have less prom.,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t steeper ra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Only the best and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atient can be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ltimate Male Model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9246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Variables and Timing 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04920" y="1859040"/>
            <a:ext cx="85341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Vlookup” to find salary at any given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n interest based on random normally distributed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ssumed a career has 74 peri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37 year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. student age 28 means retirement @ 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simulate random exponential variables for hiring/promotion times and normal variables for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100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keep track of ending salary so can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udent Perspective Model Resul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445752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PRISE!!!: In this case, “settling” produces more income, with less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isk-loving, shoot for the sta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the ULTIMATE MALE MODELER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609480" y="1252440"/>
            <a:ext cx="77724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udent Perspective Model Resul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Trial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581280" cy="2432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581280" cy="2432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3886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 and Q&amp;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Perspective model relies on exponentially distributed waiting time variables to see if “worth” the wait for better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for school selection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 is now officially our bitch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CD way of lif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 to hear what students have to 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he recruiters just happ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as little real work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Perspec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me the mone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it or Sett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allocation model (think MBA tea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olutionary Solv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ay, “ooooh”, we sa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b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of Jobs 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Attributes (Self Selected or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Formu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Variables = Job Al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Function = Penalty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mize weighted average of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 hiring (can’t hire more than open– highly weighted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ing attributes (can’t fulfill all requirements- lightly weighted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Attributes: Company Entered, Allocating 7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Attributes: Self Selected or OCD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7315200" cy="2525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838080" y="4952880"/>
            <a:ext cx="73152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9640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if Box (The black box where calc’s get ma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228600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23623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72400" y="23623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610480" y="44956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5334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 Resul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jobs open are f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ty low maintena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input from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t student input to maintain pret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mployment “job” gives you flexibility with regard to possible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unemployed are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Student Persp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couldn’t care about O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how do students view the job 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udents see three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hing (ie. Top notch Investment Ba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tling (ie. Office Space Du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-REACH (i.e., Decision Models Prof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“The ULTIMATE Male Modeler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YOU CHOOSE WHICH ONE TO PURSUE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6781680" y="2514600"/>
            <a:ext cx="15051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Student Persp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any variables to consider, includ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ften does each job open u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banker opening more rare than Office Space Dude.  Ultimate Male Modeler most rare of al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ften does one get promoted in each job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one’s salary trajectory look like at each promo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ny of these variables correlated?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ay, “ooooh”, we say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you to consider all these variables and see which job produces the highest lifetime after-tax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finding &amp; promotion variables are modeled as exponentially distributed random interarrival times (think catalog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ookup allows you to find relevant salary at a give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lifetime after-tax income simulated in Crystal ball (think 401k/retirement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3:19:44Z</dcterms:created>
  <dc:creator>Stern Business School</dc:creator>
  <dc:description/>
  <dc:language>en-US</dc:language>
  <cp:lastModifiedBy>Michael J. Smolow</cp:lastModifiedBy>
  <dcterms:modified xsi:type="dcterms:W3CDTF">2006-04-24T18:49:51Z</dcterms:modified>
  <cp:revision>17</cp:revision>
  <dc:subject/>
  <dc:title>Slide 1</dc:title>
</cp:coreProperties>
</file>